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4D5-C673-4A4F-B87D-68F5743D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481-A03A-4FF8-A6CC-01497019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736-1C01-4C34-B4ED-D515AC7B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1D2-C13E-47B2-BB38-CC28C58C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9C1-6997-4FF9-8094-F489776C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E71-EF5E-4F1C-B5AE-60611059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64E-4AAC-4FE5-AB60-2B07A34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7F3-6F1C-4A4B-BA11-B48BF964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650-77DD-4102-A695-428F393A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36A-54CE-436B-8890-EC710BD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6FA-6DDB-4B7D-A5A2-A8002C4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6E5-8EE9-4F02-8059-0F45C7E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D25DE-86FB-4864-93AA-DED7F45B6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e something d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', you get somebody else to do something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1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 going to have my hair c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 having her house redecor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 having a copy of the report 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informal English, we can replace 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' by 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'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 getting a new telephone system install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be getting the system repair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quickly as they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t the bill s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to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8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e can also us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'have/got something don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' in situations wher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omething bad has happened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people or their possessions. This is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not something they wanted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to happe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d all his money stol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his hotel bed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d our car damag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falling t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t my nose b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en playing rug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us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ave someone do someth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alk about giving instructions or 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5236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d my assistant ty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re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 have my lawyer look in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having her brother repair the compu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us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et someone to do someth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alk abou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vinc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meone to do some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5236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t my dad 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d n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ll get their teacher to g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tudy holiday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t her son to was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1:18:19Z</dcterms:created>
  <dc:creator>Paul Filippetto</dc:creator>
  <dc:description/>
  <dc:language>en-US</dc:language>
  <cp:lastModifiedBy>Paul Filippetto</cp:lastModifiedBy>
  <dcterms:modified xsi:type="dcterms:W3CDTF">2013-03-18T18:24:28Z</dcterms:modified>
  <cp:revision>9</cp:revision>
  <dc:subject/>
  <dc:title>If you 'have something done', you get somebody else to do something for you.</dc:title>
</cp:coreProperties>
</file>